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0F4-96E2-4C5D-9FD3-BAACB800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7D5-A5A9-49ED-8658-E077FE4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3FE-EF57-4104-A51E-F5E3189D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A243-408D-44CC-AA96-2DD3EBB1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AAA-309B-4D57-AFC2-37FD621F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B66-8B96-4CFB-86B1-DDD58B9A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8D17-35DC-4CA0-9E8B-AAF75B29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1C9-A405-48BB-92EA-55625A5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903F-EA9E-45F3-A763-CA320F8E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370F-CEBB-41EF-B5B2-B20DB236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B128-76B1-4A27-B697-CAB03CF8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CC3-661A-47A8-B3C0-029E1EBDB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ABEEC-9CE1-4BA2-A4FB-4F5E00F6A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AB7F-562E-4703-B045-A1B1C0EC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1CFC-BD7B-4F16-A3FB-F9D62A87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13C4-A7C7-427D-BEBF-6EC60B51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B8E5-BC70-4B9D-99C6-D754D545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0377-39B9-4DD3-B506-9D1845D5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D0CB-3EBB-4A14-92D2-0906AE29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1FFD-B5C7-4B26-9BB7-1AD9042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8E85-8CE8-42DE-9D78-E7615797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11CD-A08F-4050-BCD3-D239A2FF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5384-61F0-4C9E-AE86-971D87BA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5ECD-5B5A-48F5-B5E8-7C80ABF3D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A304-721D-49FE-8347-DF82409D3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0202-8D35-4723-910F-5540DB83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A8D04-75E7-4407-B8B5-2BFD672B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D13AD-AD72-4590-88A7-9C2821A3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99E92-F1B0-4044-B096-8AF9F65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FE32-5685-4C19-90F6-9A199CE0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DBAFF-7B49-47CE-97EA-6CB2C88E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6C1AA-3752-4349-97DA-3A29F413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85C4B-9687-4BAE-B732-21CE57B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1C3B-FED9-4AC5-BFAA-CFD0F841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97A28-D861-4A37-A933-D9D293C3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6248-E8C2-4D16-925C-C112FCF4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FEEE-603B-4F4B-92B8-DD93E4D0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74435-E772-4513-B31F-2DF2D514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EBEB5-01AE-4EC7-AEAD-53C542786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94F4C-0588-42F0-AE7F-45C01B9B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7131B-731B-4E9D-B355-B324CEA7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5A4CC-145A-466F-AE38-A7FCAA07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2E25-0F0E-4ED8-855F-D422376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754C4-A2F5-4E0E-BE34-D16BC4A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01522-9502-4C4C-B62D-BD3B06E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C6E03-1DCB-4CCD-923D-D8290E3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B754A-B577-4BDA-9ABA-FA936284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55BBE-5B4D-438C-BD63-8EDBDE51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7A4CE-2E71-418E-9861-D2E57BE2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98A90-AEA8-4F6D-AB32-438602E5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7524D-3175-4194-9FE9-7C9D0702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B3DE-1BC2-455D-8B77-D6311FF3B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A50F-DFAA-4B64-BFBD-FA98C1FF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E2154-8430-4956-99D8-4BFC747B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8D45B-6182-45C6-B845-7EDA9DF7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3148-0F77-4802-8567-C0B9C06B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108F-EE41-4449-BA1D-2A35F455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E85B0-2FD8-4BAD-9352-039122455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8BD38-BB49-4A19-A745-07F948D7D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0F498-71CD-4E18-9B3D-4D8F347C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AC9B-232C-43D2-BEED-3D975881A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DF211-0B8B-4FC3-B627-1ADE240B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5C049-39AF-4258-91A8-5347B977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7CB5F-DB35-43CE-8DB8-D4143CB2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978D6-C651-4BE2-A8B6-3AC8CC81F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E8414-127F-45A0-AC4D-0B2B530F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E0CCB-43D6-498B-9EE2-E6D31232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896B-FA73-4472-930B-117F03C7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D82B0-262A-4CC4-9312-5F348846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F157E-94CC-4D36-8D55-2A5B891B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208B9-FE10-4437-BF8A-3131FD8B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1CBD0-A81C-4295-9EF1-4795A59F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609120" y="118800"/>
            <a:ext cx="8936280" cy="68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120" y="4298760"/>
            <a:ext cx="89362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188320" y="177768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188320" y="4298760"/>
            <a:ext cx="436068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3060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651720" y="177768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1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3060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651720" y="4298760"/>
            <a:ext cx="2877120" cy="2301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25"/>
              </a:spcBef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2225"/>
              </a:spcBef>
              <a:buNone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793600"/>
            <a:ext cx="8928360" cy="227340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64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90360" y="1345680"/>
            <a:ext cx="8178840" cy="5511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1000"/>
          </a:bodyPr>
          <a:p>
            <a:pPr marL="576000" indent="-46044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1026720" indent="-46044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60160" indent="-46044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05120" indent="-46044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44320" indent="-46080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44320" indent="-46080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44320" indent="-460800">
              <a:spcBef>
                <a:spcPts val="3300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760320" indent="-37296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2" marL="107460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1403280" indent="-32688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4" marL="171756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5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6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"/>
          </p:nvPr>
        </p:nvSpPr>
        <p:spPr>
          <a:xfrm>
            <a:off x="6254640" y="6972480"/>
            <a:ext cx="237168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B024-992F-49C6-BA3B-4D5A19456BE6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"/>
          </p:nvPr>
        </p:nvSpPr>
        <p:spPr>
          <a:xfrm>
            <a:off x="293760" y="6972480"/>
            <a:ext cx="537840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"/>
          </p:nvPr>
        </p:nvSpPr>
        <p:spPr>
          <a:xfrm>
            <a:off x="8775720" y="6972480"/>
            <a:ext cx="110016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219A-58F0-413C-8FF4-C5AF74649EA0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760320" indent="-37296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2" marL="107460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1403280" indent="-32688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4" marL="171756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5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6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4"/>
          </p:nvPr>
        </p:nvSpPr>
        <p:spPr>
          <a:xfrm>
            <a:off x="6254640" y="6972480"/>
            <a:ext cx="237168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217D-737D-4A12-B5CC-F79E71DF9212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5"/>
          </p:nvPr>
        </p:nvSpPr>
        <p:spPr>
          <a:xfrm>
            <a:off x="293760" y="6972480"/>
            <a:ext cx="537840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6"/>
          </p:nvPr>
        </p:nvSpPr>
        <p:spPr>
          <a:xfrm>
            <a:off x="8775720" y="6972480"/>
            <a:ext cx="110016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DB7B-07E2-4E2C-A837-9F380158C634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6"/>
          <p:cNvSpPr/>
          <p:nvPr/>
        </p:nvSpPr>
        <p:spPr>
          <a:xfrm>
            <a:off x="1476360" y="1440000"/>
            <a:ext cx="7207200" cy="3501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760320" indent="-37296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2" marL="107460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1403280" indent="-32688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4" marL="171756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5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6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7"/>
          </p:nvPr>
        </p:nvSpPr>
        <p:spPr>
          <a:xfrm>
            <a:off x="6254640" y="6972480"/>
            <a:ext cx="237168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A73F-F954-4103-AED9-4B07EEEAACD2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8"/>
          </p:nvPr>
        </p:nvSpPr>
        <p:spPr>
          <a:xfrm>
            <a:off x="293760" y="6972480"/>
            <a:ext cx="537840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9"/>
          </p:nvPr>
        </p:nvSpPr>
        <p:spPr>
          <a:xfrm>
            <a:off x="8775720" y="6972480"/>
            <a:ext cx="110016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95B9-682C-4BA3-BAA8-98CA7DB55A7A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760320" indent="-37296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2" marL="107460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1403280" indent="-32688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4" marL="171756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5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6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10"/>
          </p:nvPr>
        </p:nvSpPr>
        <p:spPr>
          <a:xfrm>
            <a:off x="6254640" y="6972480"/>
            <a:ext cx="237168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25CDA-1890-461B-9250-7BC8C9A5F76A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11"/>
          </p:nvPr>
        </p:nvSpPr>
        <p:spPr>
          <a:xfrm>
            <a:off x="293760" y="6972480"/>
            <a:ext cx="537840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12"/>
          </p:nvPr>
        </p:nvSpPr>
        <p:spPr>
          <a:xfrm>
            <a:off x="8775720" y="6972480"/>
            <a:ext cx="110016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A391-DBC8-4727-B117-20DBD450043F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6"/>
          <p:cNvSpPr/>
          <p:nvPr/>
        </p:nvSpPr>
        <p:spPr>
          <a:xfrm>
            <a:off x="1476360" y="1440000"/>
            <a:ext cx="7207200" cy="350172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>
              <a:lnSpc>
                <a:spcPct val="100000"/>
              </a:lnSpc>
              <a:spcBef>
                <a:spcPts val="2225"/>
              </a:spcBef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760320" indent="-37296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2" marL="107460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1403280" indent="-32688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4" marL="171756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5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6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13"/>
          </p:nvPr>
        </p:nvSpPr>
        <p:spPr>
          <a:xfrm>
            <a:off x="6254640" y="6972480"/>
            <a:ext cx="237168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B38D-5B1E-4468-BEA1-D0718A7D3780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14"/>
          </p:nvPr>
        </p:nvSpPr>
        <p:spPr>
          <a:xfrm>
            <a:off x="293760" y="6972480"/>
            <a:ext cx="537840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15"/>
          </p:nvPr>
        </p:nvSpPr>
        <p:spPr>
          <a:xfrm>
            <a:off x="8775720" y="6972480"/>
            <a:ext cx="110016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BB2E-D3CD-4BCE-81E0-85EB7310240D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760320" indent="-37296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2" marL="107460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3" marL="1403280" indent="-326880">
              <a:spcBef>
                <a:spcPts val="2225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4" marL="1717560" indent="-31248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5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6" marL="1717560" indent="-312480">
              <a:spcBef>
                <a:spcPts val="2225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16"/>
          </p:nvPr>
        </p:nvSpPr>
        <p:spPr>
          <a:xfrm>
            <a:off x="6254640" y="6972480"/>
            <a:ext cx="237168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557E-B138-444E-9E46-51D32E666F70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17"/>
          </p:nvPr>
        </p:nvSpPr>
        <p:spPr>
          <a:xfrm>
            <a:off x="293760" y="6972480"/>
            <a:ext cx="537840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radley Hand ITC TT-Bold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18"/>
          </p:nvPr>
        </p:nvSpPr>
        <p:spPr>
          <a:xfrm>
            <a:off x="8775720" y="6972480"/>
            <a:ext cx="1100160" cy="4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0B2A-7282-4527-977F-5C332A4FDD52}" type="slidenum"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5892480"/>
            <a:ext cx="8928360" cy="132084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5000"/>
              </a:srgbClr>
            </a:outerShdw>
          </a:effectLst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3080" y="1929960"/>
            <a:ext cx="4876560" cy="21970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5000"/>
              </a:srgbClr>
            </a:outerShdw>
          </a:effectLst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d7e2ee"/>
                </a:solidFill>
                <a:latin typeface="Stone Sans ITC TT-Semi"/>
              </a:rPr>
              <a:t>Click to edit the title text format</a:t>
            </a:r>
            <a:endParaRPr b="0" lang="en-US" sz="5800" spc="-1" strike="noStrike">
              <a:solidFill>
                <a:srgbClr val="d7e2ee"/>
              </a:solidFill>
              <a:latin typeface="Stone Sans ITC TT-S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343080" y="4216320"/>
            <a:ext cx="4876560" cy="1968480"/>
          </a:xfrm>
          <a:prstGeom prst="rect">
            <a:avLst/>
          </a:prstGeom>
          <a:noFill/>
          <a:ln w="0">
            <a:noFill/>
          </a:ln>
          <a:effectLst>
            <a:outerShdw dist="12600" dir="16200000" blurRad="0" rotWithShape="0">
              <a:srgbClr val="000000">
                <a:alpha val="75000"/>
              </a:srgbClr>
            </a:outerShdw>
          </a:effectLst>
        </p:spPr>
        <p:txBody>
          <a:bodyPr lIns="38160" rIns="38160" tIns="38160" bIns="38160" anchor="t">
            <a:normAutofit fontScale="62000"/>
          </a:bodyPr>
          <a:p>
            <a:pPr marL="211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Click to edit the outline text format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1" marL="211320" indent="-211320" algn="ctr">
              <a:buClr>
                <a:srgbClr val="d7e2ee"/>
              </a:buClr>
              <a:buFont typeface="Stone Sans ITC TT-S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Second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2" marL="211320" indent="-211320" algn="ctr">
              <a:buClr>
                <a:srgbClr val="d7e2ee"/>
              </a:buClr>
              <a:buFont typeface="Stone Sans ITC TT-Sem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Third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3" marL="211320" indent="-211320" algn="ctr">
              <a:buClr>
                <a:srgbClr val="d7e2ee"/>
              </a:buClr>
              <a:buFont typeface="Stone Sans ITC TT-Sem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Four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4" marL="211320" indent="-211320" algn="ctr">
              <a:buClr>
                <a:srgbClr val="d7e2ee"/>
              </a:buClr>
              <a:buFont typeface="Stone Sans ITC TT-S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Fif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5" marL="211320" indent="-211320" algn="ctr">
              <a:buClr>
                <a:srgbClr val="d7e2ee"/>
              </a:buClr>
              <a:buFont typeface="Stone Sans ITC TT-S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Six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  <a:p>
            <a:pPr lvl="6" marL="211320" indent="-211320" algn="ctr">
              <a:buClr>
                <a:srgbClr val="d7e2ee"/>
              </a:buClr>
              <a:buFont typeface="Stone Sans ITC TT-Sem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7e2ee"/>
                </a:solidFill>
                <a:latin typeface="Stone Sans ITC TT-Semi"/>
              </a:rPr>
              <a:t>Seventh Outline Level</a:t>
            </a:r>
            <a:endParaRPr b="0" lang="en-US" sz="2800" spc="-1" strike="noStrike">
              <a:solidFill>
                <a:srgbClr val="d7e2e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5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130400" y="2437920"/>
            <a:ext cx="3619440" cy="441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02120" indent="-3117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55280" indent="-31320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092960" indent="-31284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439280" indent="-3117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782000" indent="-3121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782000" indent="-3121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782000" indent="-3121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5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90360" y="243792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marL="532440" indent="-4129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999720" indent="-4147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447200" indent="-4143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905480" indent="-4129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2359080" indent="-41328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2359080" indent="-41328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2359080" indent="-41328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5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130400" y="2437920"/>
            <a:ext cx="3619440" cy="441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02120" indent="-3117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755280" indent="-31320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1092960" indent="-31284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439280" indent="-3117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782000" indent="-3121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782000" indent="-3121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782000" indent="-3121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5000" spc="-1" strike="noStrike">
              <a:solidFill>
                <a:srgbClr val="3b3b3e"/>
              </a:solidFill>
              <a:latin typeface="Stone Sans ITC TT-Sem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286680" y="2437920"/>
            <a:ext cx="2882880" cy="4419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64000"/>
          </a:bodyPr>
          <a:p>
            <a:pPr marL="362520" indent="-2811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1" marL="680760" indent="-28224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2" marL="985320" indent="-28224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3" marL="1297080" indent="-28116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4" marL="1606320" indent="-2815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5" marL="1606320" indent="-2815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  <a:p>
            <a:pPr lvl="6" marL="1606320" indent="-281520">
              <a:spcBef>
                <a:spcPts val="2701"/>
              </a:spcBef>
              <a:buClr>
                <a:srgbClr val="000000"/>
              </a:buClr>
              <a:buSzPct val="77000"/>
              <a:buFont typeface="Bradley Hand ITC TT-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 TT-Bold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333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3b3e"/>
                </a:solidFill>
                <a:latin typeface="Stone Sans ITC TT-Semi"/>
              </a:rPr>
              <a:t>Click to edit the title text format</a:t>
            </a:r>
            <a:endParaRPr b="0" lang="en-US" sz="5000" spc="-1" strike="noStrike">
              <a:solidFill>
                <a:srgbClr val="3b3b3e"/>
              </a:solidFill>
              <a:latin typeface="Stone Sans ITC TT-S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120" y="2057400"/>
            <a:ext cx="8928360" cy="2286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How To Get The Most</a:t>
            </a:r>
            <a:br>
              <a:rPr sz="5100"/>
            </a:b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For Your Security Dollar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23" name="Picture 2" descr="museum.png"/>
          <p:cNvPicPr/>
          <p:nvPr/>
        </p:nvPicPr>
        <p:blipFill>
          <a:blip r:embed="rId2"/>
          <a:stretch/>
        </p:blipFill>
        <p:spPr>
          <a:xfrm>
            <a:off x="3860640" y="609480"/>
            <a:ext cx="2337120" cy="1832040"/>
          </a:xfrm>
          <a:prstGeom prst="rect">
            <a:avLst/>
          </a:prstGeom>
          <a:ln w="0">
            <a:noFill/>
          </a:ln>
        </p:spPr>
      </p:pic>
      <p:sp>
        <p:nvSpPr>
          <p:cNvPr id="624" name="TextBox 3"/>
          <p:cNvSpPr/>
          <p:nvPr/>
        </p:nvSpPr>
        <p:spPr>
          <a:xfrm>
            <a:off x="3711960" y="464832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AM Members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60520" y="76176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Is it UL Listed for its purpose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90360" y="3124080"/>
            <a:ext cx="8178840" cy="1727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ill I use it in the manner for which it is listed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45" name="Picture 3" descr=""/>
          <p:cNvPicPr/>
          <p:nvPr/>
        </p:nvPicPr>
        <p:blipFill>
          <a:blip r:embed="rId2"/>
          <a:stretch/>
        </p:blipFill>
        <p:spPr>
          <a:xfrm>
            <a:off x="4089240" y="4597560"/>
            <a:ext cx="1435320" cy="1904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64800" y="837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Stable is the Company That Makes I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990360" y="2844360"/>
            <a:ext cx="8178840" cy="19940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ill this company be acquired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ill my product be orphaned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4"/>
          <a:stretch/>
        </p:blipFill>
        <p:spPr>
          <a:xfrm>
            <a:off x="3162240" y="4668840"/>
            <a:ext cx="2857680" cy="190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60520" y="6094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re there real competitor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990360" y="2844360"/>
            <a:ext cx="8178840" cy="1816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Multiple dealers of the same product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Multiple product choice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51" name="Picture 3" descr=""/>
          <p:cNvPicPr/>
          <p:nvPr/>
        </p:nvPicPr>
        <p:blipFill>
          <a:blip r:embed="rId4"/>
          <a:stretch/>
        </p:blipFill>
        <p:spPr>
          <a:xfrm>
            <a:off x="3300480" y="4546440"/>
            <a:ext cx="1982880" cy="21085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60520" y="110448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Do I Need or Will I Use All the Bells and Whistle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53" name="Picture 2" descr=""/>
          <p:cNvPicPr/>
          <p:nvPr/>
        </p:nvPicPr>
        <p:blipFill>
          <a:blip r:embed="rId2"/>
          <a:stretch/>
        </p:blipFill>
        <p:spPr>
          <a:xfrm>
            <a:off x="3327480" y="3911760"/>
            <a:ext cx="3492360" cy="237492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612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re Its Benefits Worth the Cos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2"/>
          <a:stretch/>
        </p:blipFill>
        <p:spPr>
          <a:xfrm>
            <a:off x="3716280" y="3213000"/>
            <a:ext cx="272268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60520" y="76212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Do its Disadvantages Result in Increased Costs of Ownership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57" name="Picture 2" descr=""/>
          <p:cNvPicPr/>
          <p:nvPr/>
        </p:nvPicPr>
        <p:blipFill>
          <a:blip r:embed="rId2"/>
          <a:stretch/>
        </p:blipFill>
        <p:spPr>
          <a:xfrm>
            <a:off x="3186000" y="4292640"/>
            <a:ext cx="2948040" cy="23367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Example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Many people bought the latest and greatest CCTV systems only to find that there is a “hidden” cost of annual recurring and increasing licensing fees for their cameras to work on the system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Know the hidden costs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60520" y="685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re its Components Open Source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990360" y="3098520"/>
            <a:ext cx="8178840" cy="3454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an I buy components direct and not through the dealer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re a premium to use Open Source component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Am I required to buy accessories and are they, too, open sourc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60520" y="6854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re the Payment Terms Fair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990360" y="3060360"/>
            <a:ext cx="8178840" cy="1536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re a contractor hold back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Is Installation Included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2"/>
          <a:stretch/>
        </p:blipFill>
        <p:spPr>
          <a:xfrm>
            <a:off x="3848040" y="2819520"/>
            <a:ext cx="2451240" cy="29908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60520" y="9144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Do I Evaluate A Security Produc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90360" y="3250800"/>
            <a:ext cx="8178840" cy="3568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Gather Information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Ask for Literature and Information from the Seller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ontact Colleagues who have used the product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60520" y="1104480"/>
            <a:ext cx="7238880" cy="1701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What is the response time for repair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67" name="Picture 2" descr=""/>
          <p:cNvPicPr/>
          <p:nvPr/>
        </p:nvPicPr>
        <p:blipFill>
          <a:blip r:embed="rId2"/>
          <a:stretch/>
        </p:blipFill>
        <p:spPr>
          <a:xfrm>
            <a:off x="3594240" y="3198960"/>
            <a:ext cx="2958840" cy="31384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86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Never Buy Version 1.0 of Anything.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69" name="Picture 2" descr=""/>
          <p:cNvPicPr/>
          <p:nvPr/>
        </p:nvPicPr>
        <p:blipFill>
          <a:blip r:embed="rId2"/>
          <a:stretch/>
        </p:blipFill>
        <p:spPr>
          <a:xfrm>
            <a:off x="3309840" y="3327480"/>
            <a:ext cx="3522600" cy="264168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17080" y="1104840"/>
            <a:ext cx="8153640" cy="24256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I Avoid Products Built on Unstable or Unreliable Components.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990360" y="3580920"/>
            <a:ext cx="8178840" cy="2845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indows Operating System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1046160" indent="-372960">
              <a:spcBef>
                <a:spcPts val="663"/>
              </a:spcBef>
              <a:buSzPct val="113173"/>
              <a:buBlip>
                <a:blip r:embed="rId3"/>
              </a:buBlip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 prefer Linux instea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Re-branded products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12880" y="1104840"/>
            <a:ext cx="5486400" cy="56642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I never experiment on my clients</a:t>
            </a:r>
            <a:br>
              <a:rPr sz="5100"/>
            </a:b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nd you</a:t>
            </a:r>
            <a:br>
              <a:rPr sz="5100"/>
            </a:b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should not </a:t>
            </a:r>
            <a:br>
              <a:rPr sz="5100"/>
            </a:b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experiment </a:t>
            </a:r>
            <a:br>
              <a:rPr sz="5100"/>
            </a:b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on </a:t>
            </a:r>
            <a:br>
              <a:rPr sz="5100"/>
            </a:b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yourselves.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673" name="Picture 2" descr=""/>
          <p:cNvPicPr/>
          <p:nvPr/>
        </p:nvPicPr>
        <p:blipFill>
          <a:blip r:embed="rId2"/>
          <a:stretch/>
        </p:blipFill>
        <p:spPr>
          <a:xfrm>
            <a:off x="6070680" y="2362320"/>
            <a:ext cx="2997000" cy="39909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60520" y="1104480"/>
            <a:ext cx="7238880" cy="19940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re there procurement ramification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825120" y="3860280"/>
            <a:ext cx="8178840" cy="256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an this be purchased without specs or bid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f not, do we need a “tight” spec to get exactly what we want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60520" y="83808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What about software based system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90360" y="3289320"/>
            <a:ext cx="8178840" cy="3403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Am I buying or licensing this product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hat are the term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an I be charged again for continuing to use the softwar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5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Are there “seat” or “IP address” license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60520" y="9144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What about software based system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90360" y="3301560"/>
            <a:ext cx="8178840" cy="2692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 software I am buying full-featured or do I need add-on licenses to unlock the other feature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 software I am buying as full-featured as the version described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460520" y="1104840"/>
            <a:ext cx="7238880" cy="17906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What about software based system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990360" y="33523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 I have to pay for bug fixe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Consultants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your consultant a specialist or generalist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your consultant experienced in what you need don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Have you actually checked references or just relied on reputation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1046160" indent="-372960">
              <a:spcBef>
                <a:spcPts val="663"/>
              </a:spcBef>
              <a:buSzPct val="113173"/>
              <a:buBlip>
                <a:blip r:embed="rId5"/>
              </a:buBlip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ck several references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Consultants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Have you asked for references from someone who really know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Has your consultant successfully completed other similar project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es your consultant sub-contract some work to non-staff “associates”? Have you asked why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60520" y="91440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Do I Evaluate A Security Produc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120" y="3124080"/>
            <a:ext cx="8936280" cy="3479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Objectively consider alternate products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Ask a competitor what’s wrong with the product you are evaluating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is a lease or a purchas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Consultants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your consultant insured with REAL professional liability insurance? 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1046160" indent="-372960">
              <a:spcBef>
                <a:spcPts val="663"/>
              </a:spcBef>
              <a:buSzPct val="113173"/>
              <a:buBlip>
                <a:blip r:embed="rId3"/>
              </a:buBlip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oes it insure your loss that he causes or does it defend him against you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Consultants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 you fully understand the fees and expenses? What expenses are reasonabl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ill the consultant give me a fixed fee for a defined scope of work and guarantee no overrun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1046160" indent="-372960">
              <a:spcBef>
                <a:spcPts val="663"/>
              </a:spcBef>
              <a:buSzPct val="113173"/>
              <a:buBlip>
                <a:blip r:embed="rId4"/>
              </a:buBlip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urly rate means nothing. What the total job will cost is all that is importa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Consultants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es your consultant warranty his work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 you fully understand the work product that will result from the consultant’s work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lvl="1" marL="1046160" indent="-372960">
              <a:spcBef>
                <a:spcPts val="663"/>
              </a:spcBef>
              <a:buSzPct val="113173"/>
              <a:buBlip>
                <a:blip r:embed="rId4"/>
              </a:buBlip>
              <a:tabLst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should be spelled out in detail and agreed upon in advan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Acceptance Testing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 thoroughly test every product before accepting it. The warranty only begins when I have fully accepted it and not when I begin to use it. I put this into the sales agreement. You should, too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400" spc="-1" strike="noStrike">
                <a:solidFill>
                  <a:srgbClr val="2c7c9f"/>
                </a:solidFill>
                <a:latin typeface="Arial"/>
              </a:rPr>
              <a:t>Compliment of</a:t>
            </a:r>
            <a:br>
              <a:rPr sz="2400"/>
            </a:b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Steve Keller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609120" y="4495680"/>
            <a:ext cx="8936280" cy="990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lnSpc>
                <a:spcPct val="100000"/>
              </a:lnSpc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yright 2011 by Steve Keller. All Rights Reserved. May be used for non-commercial cultural property training programs only and never for paid or commercial presentations. This copyright notice and author credits must remain with this document.</a:t>
            </a:r>
            <a:endParaRPr b="0" lang="en-US" sz="16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104148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Arial"/>
              </a:rPr>
              <a:t>Steve Keller is a museum security consultant who has assisted many clients in making large ticket purchases.</a:t>
            </a:r>
            <a:endParaRPr b="0" lang="en-US" sz="2400" spc="-1" strike="noStrike">
              <a:solidFill>
                <a:srgbClr val="000000"/>
              </a:solidFill>
              <a:latin typeface="Bradley Hand ITC TT-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60520" y="685800"/>
            <a:ext cx="7238880" cy="1905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Do I Select a Produc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990360" y="3035160"/>
            <a:ext cx="8178840" cy="4127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es it work as advertised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es it do what I want don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it sized properly for my current and future need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5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an this product expand to meet unforeseen need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60520" y="8377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Do I Select a Produc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990360" y="2615760"/>
            <a:ext cx="8178840" cy="4419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Does it do what I need done reliably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 hardware or software proprietary to one company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an I get service locally from multiple source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5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an I get an affordable service contract on it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60520" y="838080"/>
            <a:ext cx="7238880" cy="1828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Do I Select a Produc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120" y="3124080"/>
            <a:ext cx="8936280" cy="3479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SzPct val="113027"/>
              <a:buBlip>
                <a:blip r:embed="rId2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hat is the monetary and non-monetary cost of owning this product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3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hat problems will I face when it needs to be replaced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671400" indent="-387360">
              <a:spcBef>
                <a:spcPts val="2225"/>
              </a:spcBef>
              <a:buSzPct val="113027"/>
              <a:buBlip>
                <a:blip r:embed="rId4"/>
              </a:buBlip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hat is the warranty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 spd="med"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60520" y="8377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Do I Select a Product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99036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re anything about this product that makes it a special value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37" name="Picture 3" descr=""/>
          <p:cNvPicPr/>
          <p:nvPr/>
        </p:nvPicPr>
        <p:blipFill>
          <a:blip r:embed="rId2"/>
          <a:stretch/>
        </p:blipFill>
        <p:spPr>
          <a:xfrm>
            <a:off x="3860640" y="4724280"/>
            <a:ext cx="2070360" cy="204624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60520" y="76176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000080"/>
                </a:solidFill>
                <a:latin typeface="News Gothic MT"/>
              </a:rPr>
              <a:t>How Proven is the Technology It Uses?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990360" y="2908440"/>
            <a:ext cx="8178840" cy="1612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67140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s the technology so new that we don’t fully understand its vulnerabilities?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2"/>
          <a:stretch/>
        </p:blipFill>
        <p:spPr>
          <a:xfrm>
            <a:off x="2882880" y="4494240"/>
            <a:ext cx="439416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120" y="118800"/>
            <a:ext cx="8936280" cy="148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b">
            <a:noAutofit/>
          </a:bodyPr>
          <a:p>
            <a:pPr indent="0" algn="ctr">
              <a:buNone/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5100" spc="-1" strike="noStrike">
                <a:solidFill>
                  <a:srgbClr val="2c7c9f"/>
                </a:solidFill>
                <a:latin typeface="News Gothic MT"/>
              </a:rPr>
              <a:t>This is Important!</a:t>
            </a:r>
            <a:endParaRPr b="0" lang="en-US" sz="51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120" y="1777680"/>
            <a:ext cx="8936280" cy="4825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We are too quick to adopt the newest computer devices and software but we fail to understand how vulnerable we may be as a result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Computerized voting machines are a good example:  They can be tampered with, they can be hacked, they have no paper trail.  But we adopted them anyway in many locations.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  <a:p>
            <a:pPr marL="387360" indent="-387360">
              <a:spcBef>
                <a:spcPts val="2225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700" spc="-1" strike="noStrike">
                <a:solidFill>
                  <a:srgbClr val="595959"/>
                </a:solidFill>
                <a:latin typeface="News Gothic MT"/>
              </a:rPr>
              <a:t>I can bring down the access control system in many museums with a virus or a denial of service attack or a hack</a:t>
            </a:r>
            <a:endParaRPr b="0" lang="en-US" sz="27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1T02:49:14Z</dcterms:created>
  <dc:creator/>
  <dc:description/>
  <cp:keywords/>
  <dc:language>en-US</dc:language>
  <cp:lastModifiedBy>Steve Keller</cp:lastModifiedBy>
  <dcterms:modified xsi:type="dcterms:W3CDTF">2011-05-11T03:19:35Z</dcterms:modified>
  <cp:revision>2</cp:revision>
  <dc:subject/>
  <dc:title>How To Get The Most For Your Security Dollar</dc:title>
</cp:coreProperties>
</file>